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5928-37A4-42EE-AD6F-96F47914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41EE-238B-4868-B7AF-2F803A64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DADA-0DC8-4A73-B36B-A72F8211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112C-6BE5-44D9-8DBA-2FE6EF03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3DD8-629A-4E37-9620-0283B112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4610-BF20-43A7-8A93-FB3F86F2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211E-3D7D-4F32-83D9-62B84931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1935-234E-4F3B-A9CB-FB8FEE95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DE48-6B31-448C-904B-8F96DAC6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8CA1-A7F6-40B3-A6F2-A8847140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4615-7C4F-4743-9409-6010C289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0EA3-9FE7-4188-BCD2-35EC96E4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4640-BE20-4174-A4B2-F999EB5B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2C69-1600-4093-9C69-22185ACD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2C84-84C4-465F-BD5D-F36DFD51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1117-645B-4110-A255-B62713CA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EB6B-C1ED-4DC2-B2CB-C33B2F6A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51A-6804-47FC-9C0A-1CB26509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D3FD-AFA4-4C97-A6C5-DF42941B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090B-1E73-4FE7-BC21-4DE80034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52A3-1EB4-44B7-B9BD-519DD64E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9C81-372E-451C-AAC8-4AF5FC10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53D7-8FFB-4949-B917-9E8FEB46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AE85-5749-4FB0-A21F-34CC5EDF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7BAB-20C1-4D35-9D9C-8EDD778056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C378-A6EB-460E-A876-3EFA03B69D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ility visits –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iscussion &amp; Refle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vailabil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data collec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culation and interpret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engths &amp; weakn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11:59:04Z</dcterms:created>
  <dc:creator>Charlotte Colvin</dc:creator>
  <dc:description/>
  <dc:language>en-US</dc:language>
  <cp:lastModifiedBy>Charlotte Colvin</cp:lastModifiedBy>
  <dcterms:modified xsi:type="dcterms:W3CDTF">2005-09-18T12:01:42Z</dcterms:modified>
  <cp:revision>3</cp:revision>
  <dc:subject/>
  <dc:title>Slide 1</dc:title>
</cp:coreProperties>
</file>